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D38-21AD-45AA-8A3F-BD0F092F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5D1-2038-45F4-A8DE-8CBCF2C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CBF-F9D3-4148-9F16-56F2C86A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46F-8E1C-4F5B-8840-A729A23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870-55C2-4C17-ADC4-C0E7F0A0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477-9823-4D3F-A94F-F46F5F4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E27-E7F5-4BA8-A117-63A4B306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A49-E42D-4AD9-A299-9086956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C6D-6D07-403E-A052-A200EB98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CC9-C74C-47CB-836B-F7FC08B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21E-10D1-408C-B9D9-D57E4227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748-B8CB-4271-B6BA-DDAED22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462E-D3A2-4BB7-B66D-63DAE6BE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дезическая информационная систем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7800" y="10526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ратная геодезичек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93080" y="31417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8936E-007 L -0.17136 0.24728 E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234936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00902E-007 L -0.07673 0.2681 E"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4292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848E-006 L 0.43507 -0.58154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72360" y="33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23155E-006 L -0.4408 0.06339 E">
                                      <p:cBhvr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89240" y="7570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363E-006 L -0.08698 0.02799 E">
                                      <p:cBhvr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51160" y="9302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31853E-007 L -0.16858 0.41198 E">
                                      <p:cBhvr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92360" y="4005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74880" y="40165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74880" y="40165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4005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6088E-006 L 0.24584 -0.52094 E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9202E-006 L 0.021 -0.41615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71840" y="4111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04719E-006 L 0.04583 0.09206 E">
                                      <p:cBhvr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51280" y="9907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6.01434E-008 L -0.06979 0.18136 E">
                                      <p:cBhvr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27400" y="2206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8744E-006 L 0.07083 0.06292 E">
                                      <p:cBhvr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263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6694E-007 L -0.06354 -0.10109 E">
                                      <p:cBhvr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78160" y="19922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51145E-006 L 0.43767 -0.23548 E">
                                      <p:cBhvr>
                                        <p:cTn id="1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69120" y="32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9120" y="32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7266E-006 L -0.52292 0.05968 E">
                                      <p:cBhvr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14600" y="712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8721E-006 L 0.40417 0.33888 E">
                                      <p:cBhvr>
                                        <p:cTn id="12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93080" y="301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1337E-006 L -0.16667 0.0391 E">
                                      <p:cBhvr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586480" y="32716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8989E-006 L -0.25 -0.36965 E">
                                      <p:cBhvr>
                                        <p:cTn id="13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16320" y="7542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5468E-006 L 0.03298 0.1765 E">
                                      <p:cBhvr>
                                        <p:cTn id="13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6840" y="1925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391E-006 L 0.0625 -0.21698 E">
                                      <p:cBhvr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65560" y="4302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0291E-006 L 0.04635 0.24358 E"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4800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0058E-006 L -0.20278 -2.50058E-006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568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0058E-006 L 0.39809 0.14226 E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49680" y="1855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184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6.73144E-007 L -0.10816 0.05852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21080" y="23479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1994E-007 L 0.03159 0.14943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66960" y="333684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6463E-006 L 0.475 -0.03308 E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6:44:28Z</dcterms:created>
  <dc:creator>Sergio</dc:creator>
  <dc:description/>
  <dc:language>en-US</dc:language>
  <cp:lastModifiedBy>Sergio</cp:lastModifiedBy>
  <dcterms:modified xsi:type="dcterms:W3CDTF">2006-04-04T08:17:56Z</dcterms:modified>
  <cp:revision>6</cp:revision>
  <dc:subject/>
  <dc:title>Слайд 1</dc:title>
</cp:coreProperties>
</file>